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FD6-1DE9-4BBB-975B-290F27DE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5B5-EEC7-4174-913A-6E67AE0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BA5-25B7-4A7A-ABBE-223B45B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D32-1DE6-4263-8A81-7E364202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A47F-51F1-4F03-9E65-B2CC779A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A0F3-7EDC-4807-B00B-1D66A217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F8E6-82E8-4C78-A99E-4D72FAA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CD49-6EAF-4124-8C31-CE043777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1F7D-F130-4E3F-953B-50864651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1035-4DC1-4847-993B-0904DD91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2374-5A40-4AB5-BFB8-BD2BC60A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7F1-C917-4342-AE31-22B7920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C0BB-FE21-403B-817B-9D3F786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CE80-0EDE-4423-81B3-3B879417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5122-04AC-44C2-9546-1968538F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1FBD-68E8-4CE0-9FF5-06839A9C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AD68-39A1-45B1-A51F-5672C8B1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977-04F5-428D-8336-1A8D0287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11E-CF72-4311-A26D-CBAD2B01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D33-F561-49A7-9D6E-BF1D9BC1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DB6-0541-49E6-A25B-78747884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809-2C45-428B-B7D2-F6F65F98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04E-0A34-4559-99EC-5E925C1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FDB-EF04-4A40-BD18-7E98F5F1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B508-712C-449D-8C2E-068CAA58CA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DBE6-C6F0-4728-849A-CD8CCCDD36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7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YMETRALNA ODCINKA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DWUSIECZNA 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ALNA ODCIN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22292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metralna odcink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jest to prosta prostopadła do odcinka, która przechodzi przez jego środek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ymetralna odcinka jest jedną z jego osi symetrii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46280" y="2664000"/>
          <a:ext cx="373860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2664000"/>
                    <a:ext cx="37386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4572000" y="3203640"/>
            <a:ext cx="3510000" cy="368280"/>
            <a:chOff x="4572000" y="3203640"/>
            <a:chExt cx="3510000" cy="368280"/>
          </a:xfrm>
        </p:grpSpPr>
        <p:sp>
          <p:nvSpPr>
            <p:cNvPr id="101" name=""/>
            <p:cNvSpPr/>
            <p:nvPr/>
          </p:nvSpPr>
          <p:spPr>
            <a:xfrm>
              <a:off x="6507000" y="3203640"/>
              <a:ext cx="15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ymetral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572000" y="3429000"/>
              <a:ext cx="1844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267000" y="558972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|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AO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|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|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OB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WUSIECZN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6640" y="131328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wusieczna kąt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jest to półprosta wychodząca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z wierzchołka kąta i dzieląca go 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wie równe części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951280" y="2438280"/>
          <a:ext cx="310500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1280" y="2438280"/>
                    <a:ext cx="310500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4797360" y="3429000"/>
            <a:ext cx="4095720" cy="368280"/>
            <a:chOff x="4797360" y="3429000"/>
            <a:chExt cx="4095720" cy="368280"/>
          </a:xfrm>
        </p:grpSpPr>
        <p:sp>
          <p:nvSpPr>
            <p:cNvPr id="111" name=""/>
            <p:cNvSpPr/>
            <p:nvPr/>
          </p:nvSpPr>
          <p:spPr>
            <a:xfrm>
              <a:off x="6732720" y="3429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dwusieczna ką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797360" y="3654360"/>
              <a:ext cx="1844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951280" y="5589720"/>
            <a:ext cx="35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AOC = </a:t>
            </a:r>
            <a:r>
              <a:rPr b="1" lang="en-US" sz="36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1" lang="pl-PL" sz="3600" spc="-1" strike="noStrike">
                <a:solidFill>
                  <a:srgbClr val="009900"/>
                </a:solidFill>
                <a:latin typeface="Arial"/>
              </a:rPr>
              <a:t>CO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25T00:49:46Z</dcterms:modified>
  <cp:revision>134</cp:revision>
  <dc:subject/>
  <dc:title>Slajd 1</dc:title>
</cp:coreProperties>
</file>